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78D-DFFD-427D-93AF-9ACBC0FA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2E2-C4B7-462B-989C-98319E13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D96C9-C124-4CC9-A0FC-455EECDE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485EE-4187-479E-A3FB-49EEF58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91CE1-B9CB-4A3B-8029-63CD8073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101F8D-B7C6-4ED0-B140-40D7B2A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F2338-64E2-4963-AE49-EA3EECE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2269D4-3878-4A57-93C1-72D4460D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015390-9079-441D-AAB3-765C550C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59DD0-1EA5-4FFD-9F85-D64478CE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68DCC1-44AA-41F4-87BE-FE5B997E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0DD-00C8-47D6-8F3C-EE3CAF75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15C-B8B6-48DB-A019-DC7490EE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64733-36C0-46C6-BA10-49433AFF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A7D02-7F5E-48B2-A582-2B793C9F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D732B-527E-4047-9227-370E1A1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BE65A-D7A3-4182-AFC1-CCBFC5B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FC470-CF27-48BC-9583-B201384B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E936C-E6B9-481E-A436-BDC875E7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53E12-C63D-4452-B723-2C6F294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FDB-5748-4BC6-A9A7-63FBE471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B44A8-B923-4D0C-899F-76832A0E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A9DCC-2D2E-41FA-8701-1C8F094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04EB-6984-429D-BB9E-EB53B86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7527D-FE58-4443-A3DF-B647D981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56446-89BA-45A9-90EE-BC982E22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C2FB-906C-46D8-8640-FD99803F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2C6B-5136-4995-B7CF-1E7CA315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CA80-0C81-44F5-B424-1BE218A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E44F-715F-4BDC-A74E-CC2944E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E4FB-23EA-4A49-B6FD-A2FF5ECD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559-9FA6-45A1-88BD-C9A9661C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CCAE-B25B-4E1A-A9D4-3123EE0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FE2C-53AD-490F-9F06-93E5330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72D8-973C-46C0-9E04-59F913F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8C37-6926-4A7A-B5CC-9CD0FE99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89C9-3063-4EF5-A86C-3D315808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0460-8E40-47CB-9CFF-314A4041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1951-FF8C-4A59-9116-82FC198A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67050-0D1F-4200-8685-AE71A720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B9BBB-912E-445E-99CD-E2BC80A3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2DC42-BADE-438C-AA90-996D55A3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CF7-F7EA-4D72-97C9-327CEB8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AD6C2-552A-465A-BB63-58D9EB7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17521-8F29-4527-97CB-89BC6DF5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1FE72-AB49-4AF3-859B-C01D22C7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2C2C1-8B0D-47F3-B842-5303BD7B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6CD11-EF7E-4286-9658-5CDE2F64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DE2C8-D976-43AE-B98C-98FEC1A1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3D020-6A11-46FA-AEC9-79B7CDA9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AE70E-81FC-4F1E-A9DF-9F63487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059D8-089F-4FD0-9F98-042DA66B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9142-4F5F-4B27-8183-458D3BBA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00B-6715-4C33-A7CF-ABC8EE0B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D3FEA-51D7-40EE-8237-A4EA509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9DF6-C200-48B7-AFA1-90A1AE5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0C47-731C-444E-BC7B-1039FD07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1935-3CBD-4DB7-BA46-09F54A5C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57FE-96D9-4B7F-801D-E6257042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D4A07-3F22-4674-989C-1490B163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314F2-CAAA-42A6-A442-38393CB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87AA-1D8A-43C0-A4D4-A84E97F1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E67BD-518A-4F32-88C4-BA8931A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B460-9AD8-4681-9F3E-8DDC0305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A45-C00D-4DA1-907B-4CC55E8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5500-39CC-44FF-93F9-5FD05F77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0858-5E62-446A-BC25-554D9F80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29601-7258-4A31-870D-45B72FA6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849E7-5764-4EDC-AD11-DE74DEFF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D841-C5CF-446B-BBCA-DECC002C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F9140-BF64-4FC5-8BFE-A742E0B9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AE865-C874-496F-9F05-320C2F00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00F9-010E-4675-B77D-9BB26316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FAC1-C1F6-4902-BA40-FA64439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EB79D-5A21-4BDC-87E3-CB92AC50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A12-310F-42A4-BD1C-1B11D62D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9BA4-F151-46FC-98E3-1EBC33A5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7DF0-7E6F-45CE-A681-63256AD8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1D02-6FC0-4957-833B-BD2371E9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7B2CA-CAFD-488A-8FF2-EF760A37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BB0FC-9EBC-4C6E-8908-295F5C25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1A4A9-A746-47B9-A6B1-60DCE0A4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CF4E0-74B4-4D38-B639-18AE3952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F3F28-8164-4ED2-93A8-0807E542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4DBFF-AFB8-4815-B1FA-5371A638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D6D40-3A3C-421E-B189-CDA3F79D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A33-B735-4F93-A799-54C72BA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50B7-F9A0-4677-B7D0-B66C9F2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0A686-A572-4450-B088-5FE3A38C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1A5D-4878-4122-B37A-ECCE2F93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489DD-2308-4924-AB1E-1CBEC025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F4A3-EECC-409A-AFE5-E85DEBE5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3515F-0ACD-41EB-8E23-9434F3F5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E6D9B-6803-4DD6-8817-D8DE78B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8A3A9-7811-469B-B83E-4CC82C33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00A4D-24B4-4333-A7AD-7F3E9217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4C4F6E-14BB-48CC-8F62-FEF8A908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184-B538-40D3-9C4C-D934035E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5565E4-913D-4B59-B932-A6AC39D5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B7B8A-7AAC-44C1-8DBF-4BFB531D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268CD-A37B-4BC5-B97F-B77C917E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14B16-E473-40C2-B191-2482197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1EBE2-842A-4001-995A-08183F92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84991E-CCF0-431E-A24B-4E0FAC39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E5DBC-521C-4803-B2D2-B83E9414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CFCFD-D0AD-4EE6-AAFC-3D5AC04F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F5557-43DF-4554-A92A-74B2FC1E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02AE3-F00D-49E6-95AF-A3EDFB57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0086-6CB6-4C09-98FA-3B1A255E8824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DFF-86EC-4128-96A5-0E28919DC7B0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9FEA-8A01-4A6C-9512-024CE594A43E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E65-6D92-40C7-8CAE-C35FDBEA1BEF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59CC-1F9D-4109-86AD-403F24BFB1E5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6021-1A62-493B-87ED-BA4C69466E33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93C6-4822-4080-B24A-FED6C3D3C4D7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C96-364E-4786-85DB-453AEC3BDA93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1EB2-1E69-475F-9E0B-5D07768FB8D2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20840" y="195120"/>
            <a:ext cx="8547120" cy="28292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517680" y="-171360"/>
            <a:ext cx="8638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ru-RU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517680" y="0"/>
            <a:ext cx="8638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6374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6374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USERZAV</cp:lastModifiedBy>
  <dcterms:modified xsi:type="dcterms:W3CDTF">2015-01-17T07:42:03Z</dcterms:modified>
  <cp:revision>21</cp:revision>
  <dc:subject/>
  <dc:title>Как анализировать свой собственный урок  (Самоанализ урока)</dc:title>
</cp:coreProperties>
</file>